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14.png" ContentType="image/png"/>
  <Override PartName="/ppt/media/image2.png" ContentType="image/png"/>
  <Override PartName="/ppt/media/image13.wmf" ContentType="image/x-wmf"/>
  <Override PartName="/ppt/media/image5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7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23.png" ContentType="image/png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57.png" ContentType="image/png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79.wmf" ContentType="image/x-wmf"/>
  <Override PartName="/ppt/media/image78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18.wmf" ContentType="image/x-wmf"/>
  <Override PartName="/ppt/media/image83.wmf" ContentType="image/x-wmf"/>
  <Override PartName="/ppt/media/image17.wmf" ContentType="image/x-wmf"/>
  <Override PartName="/ppt/media/image82.wmf" ContentType="image/x-wmf"/>
  <Override PartName="/ppt/media/image15.wmf" ContentType="image/x-wmf"/>
  <Override PartName="/ppt/media/image80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B46-B2F9-451F-B689-233A3D7A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7AB-F949-4306-BF9F-FFCB539F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EE6-E88C-4991-B91F-394AD35B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1DB-1745-4E45-AD25-B617EB8E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ADB-54DC-4439-B847-A9DC3039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7A1-2DDA-434B-BCAA-719D5FD3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B3C-3F36-43E2-8C1A-DEB884D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F8D-9DB4-4DF9-8C4D-05319C49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C0F-FB55-4592-AE15-888B917F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AF5-DF5B-4893-AC7C-D0CD8D77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6F2-F3F5-44B0-B377-26F460C2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D09-6185-4666-B0A7-62DC3089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CE87-8F9C-4F13-B787-A47D84ACA2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75.wmf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77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1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3.wmf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84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5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86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87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88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89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90.wmf"/><Relationship Id="rId3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01.wmf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image" Target="../media/image6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3.wmf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5.wmf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hyperlink" Target="file:///tmp/home/.config/libreoffice/4/user/gallery/beep.wav" TargetMode="External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image" Target="../media/image2.png"/><Relationship Id="rId19" Type="http://schemas.openxmlformats.org/officeDocument/2006/relationships/slide" Target=""/><Relationship Id="rId20" Type="http://schemas.openxmlformats.org/officeDocument/2006/relationships/image" Target="../media/image23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26.wmf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2.wmf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35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42.wmf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43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44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45.wmf"/><Relationship Id="rId29" Type="http://schemas.openxmlformats.org/officeDocument/2006/relationships/image" Target="../media/image2.png"/><Relationship Id="rId30" Type="http://schemas.openxmlformats.org/officeDocument/2006/relationships/hyperlink" Target="file:///tmp/home/.config/libreoffice/4/user/gallery/beep.wav" TargetMode="External"/><Relationship Id="rId31" Type="http://schemas.openxmlformats.org/officeDocument/2006/relationships/image" Target="../media/image23.png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1.wmf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52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53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54.wm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9.wmf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65.wmf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67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68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69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70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71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72.wmf"/><Relationship Id="rId35" Type="http://schemas.openxmlformats.org/officeDocument/2006/relationships/oleObject" Target="../embeddings/oleObject14.bin"/><Relationship Id="rId36" Type="http://schemas.openxmlformats.org/officeDocument/2006/relationships/image" Target="../media/image73.wmf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9680"/>
            <a:ext cx="7772400" cy="101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gher M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40720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6120" y="6019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0516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av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92480" y="2192400"/>
            <a:ext cx="2716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tan A = sin A / co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636560" y="2660760"/>
          <a:ext cx="1006560" cy="55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6560" y="2660760"/>
                    <a:ext cx="10065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554880" y="5834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3560" y="2757600"/>
            <a:ext cx="813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757600" y="3363840"/>
          <a:ext cx="145872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57600" y="336384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3227400" y="4029120"/>
            <a:ext cx="41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ne and cosine are both + in original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507440" y="3562200"/>
            <a:ext cx="1096920" cy="969840"/>
            <a:chOff x="7507440" y="3562200"/>
            <a:chExt cx="1096920" cy="969840"/>
          </a:xfrm>
        </p:grpSpPr>
        <p:sp>
          <p:nvSpPr>
            <p:cNvPr id="405" name=""/>
            <p:cNvSpPr/>
            <p:nvPr/>
          </p:nvSpPr>
          <p:spPr>
            <a:xfrm>
              <a:off x="7950600" y="35622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2320" y="40687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9"/>
            <a:stretch/>
          </p:blipFill>
          <p:spPr>
            <a:xfrm>
              <a:off x="8023680" y="407484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0"/>
            <a:stretch/>
          </p:blipFill>
          <p:spPr>
            <a:xfrm>
              <a:off x="7507440" y="364644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1"/>
            <a:stretch/>
          </p:blipFill>
          <p:spPr>
            <a:xfrm>
              <a:off x="8025120" y="361296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12"/>
            <a:stretch/>
          </p:blipFill>
          <p:spPr>
            <a:xfrm>
              <a:off x="8215560" y="362412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11" name=""/>
          <p:cNvGraphicFramePr/>
          <p:nvPr/>
        </p:nvGraphicFramePr>
        <p:xfrm>
          <a:off x="3389400" y="5106960"/>
          <a:ext cx="90792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89400" y="5106960"/>
                    <a:ext cx="907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463680" y="857160"/>
            <a:ext cx="8157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simultaneous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ere  k &gt; 0  and  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479840" y="952560"/>
          <a:ext cx="1297080" cy="71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79840" y="952560"/>
                    <a:ext cx="1297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93920" y="3352680"/>
            <a:ext cx="186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cute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4640" y="4038480"/>
            <a:ext cx="2462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quadrant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54400" y="4576680"/>
            <a:ext cx="41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ution must be in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3200" y="5105520"/>
            <a:ext cx="1563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92480" y="1689120"/>
            <a:ext cx="1783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546280" y="1685880"/>
          <a:ext cx="470052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6280" y="1685880"/>
                    <a:ext cx="47005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7483320" y="52704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28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8800" y="22273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862360" y="2211480"/>
          <a:ext cx="310500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2211480"/>
                    <a:ext cx="3105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492480" y="279720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610000" y="2701800"/>
          <a:ext cx="2966760" cy="50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10000" y="2701800"/>
                    <a:ext cx="29667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2360" y="336384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2480" y="396864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300400" y="3968640"/>
          <a:ext cx="352728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00400" y="3968640"/>
                    <a:ext cx="35272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1766880" y="3246480"/>
          <a:ext cx="1209600" cy="55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6880" y="3246480"/>
                    <a:ext cx="12096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3276720" y="335448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335448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4894200" y="321300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+ and  cos -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397640" y="2217600"/>
            <a:ext cx="1068480" cy="973080"/>
            <a:chOff x="7397640" y="2217600"/>
            <a:chExt cx="1068480" cy="973080"/>
          </a:xfrm>
        </p:grpSpPr>
        <p:sp>
          <p:nvSpPr>
            <p:cNvPr id="451" name=""/>
            <p:cNvSpPr/>
            <p:nvPr/>
          </p:nvSpPr>
          <p:spPr>
            <a:xfrm>
              <a:off x="7983720" y="22176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15440" y="2724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17"/>
            <a:stretch/>
          </p:blipFill>
          <p:spPr>
            <a:xfrm>
              <a:off x="7466040" y="28018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8"/>
            <a:stretch/>
          </p:blipFill>
          <p:spPr>
            <a:xfrm>
              <a:off x="7612200" y="230184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9"/>
            <a:stretch/>
          </p:blipFill>
          <p:spPr>
            <a:xfrm>
              <a:off x="7397640" y="229716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20"/>
            <a:stretch/>
          </p:blipFill>
          <p:spPr>
            <a:xfrm>
              <a:off x="8077320" y="227952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57" name=""/>
          <p:cNvGraphicFramePr/>
          <p:nvPr/>
        </p:nvGraphicFramePr>
        <p:xfrm>
          <a:off x="7392960" y="3422520"/>
          <a:ext cx="1028880" cy="33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392960" y="3422520"/>
                    <a:ext cx="10288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79520" y="4521240"/>
            <a:ext cx="175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equ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2495520" y="4497480"/>
          <a:ext cx="2354400" cy="420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95520" y="4497480"/>
                    <a:ext cx="23544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5402160" y="4417920"/>
          <a:ext cx="1967040" cy="520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02160" y="4417920"/>
                    <a:ext cx="1967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569880" y="5032440"/>
          <a:ext cx="1981080" cy="385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69880" y="5032440"/>
                    <a:ext cx="198108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717640" y="502128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sine +, s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&amp;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93640" y="5578560"/>
          <a:ext cx="4292640" cy="307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93640" y="5578560"/>
                    <a:ext cx="429264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463680" y="914400"/>
            <a:ext cx="79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the equation                                           in the interval 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360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57440" y="932040"/>
          <a:ext cx="2436840" cy="312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57440" y="932040"/>
                    <a:ext cx="243684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5089680" y="5532480"/>
          <a:ext cx="2392200" cy="3650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089680" y="5532480"/>
                    <a:ext cx="2392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22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ve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5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549360" cy="53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86720" y="327348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960" y="790200"/>
            <a:ext cx="81043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t of the graph of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+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s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 the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ress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+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in the form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ere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&gt; 0  and  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Find the coordinates of the minimum turning point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74560" y="2644920"/>
            <a:ext cx="2129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987640" y="2641680"/>
          <a:ext cx="4532400" cy="37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2641680"/>
                    <a:ext cx="45324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66000" y="528156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026040" y="728640"/>
            <a:ext cx="2503440" cy="194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7080" y="31291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975040" y="3112920"/>
          <a:ext cx="2874960" cy="36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75040" y="3112920"/>
                    <a:ext cx="2874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78160" y="362592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129120" y="3575160"/>
          <a:ext cx="2577960" cy="4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29120" y="3575160"/>
                    <a:ext cx="2577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77800" y="411336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6360" y="461952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62120" y="4568760"/>
          <a:ext cx="3606840" cy="412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62120" y="4568760"/>
                    <a:ext cx="36068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5105520"/>
            <a:ext cx="1778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46280" y="5068800"/>
          <a:ext cx="3322800" cy="352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46280" y="5068800"/>
                    <a:ext cx="33228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76720" y="5610240"/>
            <a:ext cx="157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has coor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27280" y="5551560"/>
          <a:ext cx="1525680" cy="404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27280" y="5551560"/>
                    <a:ext cx="15256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056040" y="3979800"/>
          <a:ext cx="1030320" cy="554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056040" y="3979800"/>
                    <a:ext cx="10303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421160" y="4087800"/>
          <a:ext cx="1457280" cy="378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421160" y="4087800"/>
                    <a:ext cx="14572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165000" y="3933720"/>
            <a:ext cx="1730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891560" y="3029040"/>
            <a:ext cx="937800" cy="819000"/>
            <a:chOff x="7891560" y="3029040"/>
            <a:chExt cx="937800" cy="819000"/>
          </a:xfrm>
        </p:grpSpPr>
        <p:sp>
          <p:nvSpPr>
            <p:cNvPr id="94" name=""/>
            <p:cNvSpPr/>
            <p:nvPr/>
          </p:nvSpPr>
          <p:spPr>
            <a:xfrm>
              <a:off x="8265600" y="3029040"/>
              <a:ext cx="0" cy="8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54560" y="3456360"/>
              <a:ext cx="71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2"/>
            <a:stretch/>
          </p:blipFill>
          <p:spPr>
            <a:xfrm>
              <a:off x="8326800" y="3462120"/>
              <a:ext cx="32832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3"/>
            <a:stretch/>
          </p:blipFill>
          <p:spPr>
            <a:xfrm>
              <a:off x="7891560" y="3082680"/>
              <a:ext cx="32832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4"/>
            <a:stretch/>
          </p:blipFill>
          <p:spPr>
            <a:xfrm>
              <a:off x="8328600" y="3071880"/>
              <a:ext cx="327960" cy="32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5"/>
            <a:stretch/>
          </p:blipFill>
          <p:spPr>
            <a:xfrm>
              <a:off x="8501400" y="3088080"/>
              <a:ext cx="327960" cy="327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0" name=""/>
          <p:cNvGraphicFramePr/>
          <p:nvPr/>
        </p:nvGraphicFramePr>
        <p:xfrm>
          <a:off x="7988400" y="4098960"/>
          <a:ext cx="931680" cy="3301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988400" y="4098960"/>
                    <a:ext cx="9316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56360" y="4505400"/>
            <a:ext cx="2236680" cy="1441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4920" y="2173320"/>
            <a:ext cx="207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987640" y="2170080"/>
          <a:ext cx="4532400" cy="3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170080"/>
                    <a:ext cx="4532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750000" y="59180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  <a:hlinkClick r:id="rId6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  <a:hlinkClick r:id="rId7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080" y="26575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21120" y="2641680"/>
          <a:ext cx="2782800" cy="36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21120" y="2641680"/>
                    <a:ext cx="2782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78160" y="315432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43240" y="3103560"/>
          <a:ext cx="2347920" cy="4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43240" y="3103560"/>
                    <a:ext cx="23479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77800" y="364176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6360" y="414828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409840" y="4032360"/>
          <a:ext cx="4986360" cy="54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09840" y="4032360"/>
                    <a:ext cx="49863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76720" y="4659480"/>
            <a:ext cx="157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320" y="784080"/>
            <a:ext cx="817956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rit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in the for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stating the values of  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and  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w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&gt; 0  and 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2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)     Sketch the graph 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for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2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showing clearly the graph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ximum and minimum values and where it cuts the x-axis and the y-ax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433600" y="4654440"/>
          <a:ext cx="2443320" cy="420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33600" y="4654440"/>
                    <a:ext cx="24433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935000" y="5173560"/>
          <a:ext cx="2981520" cy="554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35000" y="5173560"/>
                    <a:ext cx="29815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8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37160" y="63770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89160" y="3630600"/>
          <a:ext cx="963720" cy="309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89160" y="3630600"/>
                    <a:ext cx="96372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516560" y="3510000"/>
          <a:ext cx="1265040" cy="590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16560" y="3510000"/>
                    <a:ext cx="12650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165000" y="3462480"/>
            <a:ext cx="1730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055000" y="3470400"/>
          <a:ext cx="716040" cy="590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055000" y="3470400"/>
                    <a:ext cx="7160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7854840" y="2617920"/>
            <a:ext cx="893520" cy="779400"/>
            <a:chOff x="7854840" y="2617920"/>
            <a:chExt cx="893520" cy="779400"/>
          </a:xfrm>
        </p:grpSpPr>
        <p:sp>
          <p:nvSpPr>
            <p:cNvPr id="145" name=""/>
            <p:cNvSpPr/>
            <p:nvPr/>
          </p:nvSpPr>
          <p:spPr>
            <a:xfrm>
              <a:off x="8211240" y="2617920"/>
              <a:ext cx="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14960" y="3024720"/>
              <a:ext cx="68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7"/>
            <a:stretch/>
          </p:blipFill>
          <p:spPr>
            <a:xfrm>
              <a:off x="8269560" y="3029760"/>
              <a:ext cx="312840" cy="3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8"/>
            <a:stretch/>
          </p:blipFill>
          <p:spPr>
            <a:xfrm>
              <a:off x="7854840" y="2669040"/>
              <a:ext cx="312840" cy="3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9"/>
            <a:stretch/>
          </p:blipFill>
          <p:spPr>
            <a:xfrm>
              <a:off x="8271000" y="2658960"/>
              <a:ext cx="312480" cy="31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0"/>
            <a:stretch/>
          </p:blipFill>
          <p:spPr>
            <a:xfrm>
              <a:off x="8435880" y="2674080"/>
              <a:ext cx="312480" cy="31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1908000"/>
            <a:ext cx="2166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922480" y="1905120"/>
          <a:ext cx="4579920" cy="37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2480" y="1905120"/>
                    <a:ext cx="4579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640560" y="4664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0200" y="25909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928960" y="2575080"/>
          <a:ext cx="2852640" cy="36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2575080"/>
                    <a:ext cx="285264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78160" y="331164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944800" y="3273480"/>
          <a:ext cx="232416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44800" y="3273480"/>
                    <a:ext cx="2324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77800" y="397044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6360" y="467676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763720" y="4686480"/>
          <a:ext cx="3403800" cy="34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63720" y="4686480"/>
                    <a:ext cx="340380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468360" y="1025640"/>
            <a:ext cx="8075520" cy="368280"/>
            <a:chOff x="468360" y="1025640"/>
            <a:chExt cx="8075520" cy="368280"/>
          </a:xfrm>
        </p:grpSpPr>
        <p:sp>
          <p:nvSpPr>
            <p:cNvPr id="177" name=""/>
            <p:cNvSpPr/>
            <p:nvPr/>
          </p:nvSpPr>
          <p:spPr>
            <a:xfrm>
              <a:off x="468360" y="1025640"/>
              <a:ext cx="649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xpress                                  in the fo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4041720" y="1039680"/>
            <a:ext cx="4502160" cy="340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41720" y="1039680"/>
                      <a:ext cx="4502160" cy="34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1409760" y="1049040"/>
            <a:ext cx="1546200" cy="293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409760" y="1049040"/>
                      <a:ext cx="1546200" cy="29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2" name=""/>
          <p:cNvGrpSpPr/>
          <p:nvPr/>
        </p:nvGrpSpPr>
        <p:grpSpPr>
          <a:xfrm>
            <a:off x="7513560" y="2714760"/>
            <a:ext cx="1111320" cy="969840"/>
            <a:chOff x="7513560" y="2714760"/>
            <a:chExt cx="1111320" cy="969840"/>
          </a:xfrm>
        </p:grpSpPr>
        <p:sp>
          <p:nvSpPr>
            <p:cNvPr id="183" name=""/>
            <p:cNvSpPr/>
            <p:nvPr/>
          </p:nvSpPr>
          <p:spPr>
            <a:xfrm>
              <a:off x="7956720" y="271476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88440" y="32209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7"/>
            <a:stretch/>
          </p:blipFill>
          <p:spPr>
            <a:xfrm>
              <a:off x="8029440" y="322740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8"/>
            <a:stretch/>
          </p:blipFill>
          <p:spPr>
            <a:xfrm>
              <a:off x="7513560" y="277812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9"/>
            <a:stretch/>
          </p:blipFill>
          <p:spPr>
            <a:xfrm>
              <a:off x="8031240" y="2765520"/>
              <a:ext cx="3888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0"/>
            <a:stretch/>
          </p:blipFill>
          <p:spPr>
            <a:xfrm>
              <a:off x="8236080" y="2784600"/>
              <a:ext cx="388800" cy="3884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9" name=""/>
          <p:cNvGraphicFramePr/>
          <p:nvPr/>
        </p:nvGraphicFramePr>
        <p:xfrm>
          <a:off x="2930400" y="3852720"/>
          <a:ext cx="1008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30400" y="3852720"/>
                    <a:ext cx="1008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284720" y="3959280"/>
          <a:ext cx="1457280" cy="377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4720" y="3959280"/>
                    <a:ext cx="14572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028200" y="3805200"/>
            <a:ext cx="1730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934400" y="3973680"/>
          <a:ext cx="907920" cy="330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934400" y="3973680"/>
                    <a:ext cx="907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33520" y="1908000"/>
            <a:ext cx="2507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ress as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151080" y="1890720"/>
          <a:ext cx="4699080" cy="37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51080" y="1890720"/>
                    <a:ext cx="46990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6408720" y="51274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0200" y="25909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936880" y="2575080"/>
          <a:ext cx="3036960" cy="36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36880" y="2575080"/>
                    <a:ext cx="303696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578160" y="331164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98720" y="3262320"/>
          <a:ext cx="241632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8720" y="3262320"/>
                    <a:ext cx="2416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77800" y="397044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6360" y="467676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67000" y="4543560"/>
          <a:ext cx="3162240" cy="6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7000" y="4543560"/>
                    <a:ext cx="31622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477720" y="901800"/>
            <a:ext cx="8188560" cy="718920"/>
            <a:chOff x="477720" y="901800"/>
            <a:chExt cx="8188560" cy="718920"/>
          </a:xfrm>
        </p:grpSpPr>
        <p:sp>
          <p:nvSpPr>
            <p:cNvPr id="222" name=""/>
            <p:cNvSpPr/>
            <p:nvPr/>
          </p:nvSpPr>
          <p:spPr>
            <a:xfrm>
              <a:off x="477720" y="901800"/>
              <a:ext cx="818856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maximum value of                               and the value of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for which it occurs in the interval   0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.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3246480" y="914400"/>
            <a:ext cx="1414440" cy="331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46480" y="914400"/>
                      <a:ext cx="141444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5" name=""/>
          <p:cNvGraphicFramePr/>
          <p:nvPr/>
        </p:nvGraphicFramePr>
        <p:xfrm>
          <a:off x="2278080" y="3987720"/>
          <a:ext cx="1143000" cy="309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78080" y="39877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794040" y="3867120"/>
          <a:ext cx="1266840" cy="590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94040" y="3867120"/>
                    <a:ext cx="12668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437080" y="3819600"/>
            <a:ext cx="189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4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is - and cos is 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473960" y="2593800"/>
            <a:ext cx="1096920" cy="969840"/>
            <a:chOff x="7473960" y="2593800"/>
            <a:chExt cx="1096920" cy="969840"/>
          </a:xfrm>
        </p:grpSpPr>
        <p:sp>
          <p:nvSpPr>
            <p:cNvPr id="231" name=""/>
            <p:cNvSpPr/>
            <p:nvPr/>
          </p:nvSpPr>
          <p:spPr>
            <a:xfrm>
              <a:off x="7902360" y="25938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34080" y="310032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19"/>
            <a:stretch/>
          </p:blipFill>
          <p:spPr>
            <a:xfrm>
              <a:off x="7975440" y="310644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0"/>
            <a:stretch/>
          </p:blipFill>
          <p:spPr>
            <a:xfrm>
              <a:off x="7473960" y="312084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1"/>
            <a:stretch/>
          </p:blipFill>
          <p:spPr>
            <a:xfrm>
              <a:off x="7977240" y="264456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2"/>
            <a:stretch/>
          </p:blipFill>
          <p:spPr>
            <a:xfrm>
              <a:off x="8181720" y="3120840"/>
              <a:ext cx="38916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37" name=""/>
          <p:cNvGraphicFramePr/>
          <p:nvPr/>
        </p:nvGraphicFramePr>
        <p:xfrm>
          <a:off x="7601040" y="3827520"/>
          <a:ext cx="836640" cy="590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601040" y="3827520"/>
                    <a:ext cx="8366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575640" y="5334120"/>
            <a:ext cx="1284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197080" y="5334120"/>
          <a:ext cx="417600" cy="369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97080" y="5334120"/>
                    <a:ext cx="4176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856960" y="5334120"/>
            <a:ext cx="724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784680" y="5200560"/>
          <a:ext cx="2349360" cy="608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84680" y="5200560"/>
                    <a:ext cx="2349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29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2611440" y="6012000"/>
            <a:ext cx="423720" cy="399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937160" y="639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 Narrow"/>
              </a:rPr>
              <a:t>Table of exact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33880" y="1851120"/>
            <a:ext cx="207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938320" y="1876320"/>
          <a:ext cx="453240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8320" y="1876320"/>
                    <a:ext cx="4532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216480" y="45752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0200" y="253368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017880" y="2517840"/>
          <a:ext cx="2874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2517840"/>
                    <a:ext cx="2874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578160" y="325440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989440" y="3192480"/>
          <a:ext cx="257616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9440" y="3192480"/>
                    <a:ext cx="2576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577800" y="391320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6360" y="461952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286000" y="4605480"/>
          <a:ext cx="366696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4605480"/>
                    <a:ext cx="36669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333520" y="3809880"/>
          <a:ext cx="1032120" cy="552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33520" y="3809880"/>
                    <a:ext cx="1032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699000" y="391788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99000" y="391788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5329080" y="376236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both 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459560" y="2536920"/>
            <a:ext cx="1111320" cy="969840"/>
            <a:chOff x="7459560" y="2536920"/>
            <a:chExt cx="1111320" cy="969840"/>
          </a:xfrm>
        </p:grpSpPr>
        <p:sp>
          <p:nvSpPr>
            <p:cNvPr id="279" name=""/>
            <p:cNvSpPr/>
            <p:nvPr/>
          </p:nvSpPr>
          <p:spPr>
            <a:xfrm>
              <a:off x="7902720" y="253692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34440" y="30430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7"/>
            <a:stretch/>
          </p:blipFill>
          <p:spPr>
            <a:xfrm>
              <a:off x="7975440" y="304956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8"/>
            <a:stretch/>
          </p:blipFill>
          <p:spPr>
            <a:xfrm>
              <a:off x="7459560" y="260028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9"/>
            <a:stretch/>
          </p:blipFill>
          <p:spPr>
            <a:xfrm>
              <a:off x="7977240" y="2587680"/>
              <a:ext cx="3888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20"/>
            <a:stretch/>
          </p:blipFill>
          <p:spPr>
            <a:xfrm>
              <a:off x="8182080" y="2606760"/>
              <a:ext cx="388800" cy="3884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85" name=""/>
          <p:cNvGraphicFramePr/>
          <p:nvPr/>
        </p:nvGraphicFramePr>
        <p:xfrm>
          <a:off x="7553160" y="3900600"/>
          <a:ext cx="93204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3160" y="3900600"/>
                    <a:ext cx="9320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7" name=""/>
          <p:cNvGrpSpPr/>
          <p:nvPr/>
        </p:nvGrpSpPr>
        <p:grpSpPr>
          <a:xfrm>
            <a:off x="477720" y="901800"/>
            <a:ext cx="8188560" cy="412560"/>
            <a:chOff x="477720" y="901800"/>
            <a:chExt cx="8188560" cy="412560"/>
          </a:xfrm>
        </p:grpSpPr>
        <p:sp>
          <p:nvSpPr>
            <p:cNvPr id="288" name=""/>
            <p:cNvSpPr/>
            <p:nvPr/>
          </p:nvSpPr>
          <p:spPr>
            <a:xfrm>
              <a:off x="477720" y="901800"/>
              <a:ext cx="81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xpress                                  in the 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9" name=""/>
            <p:cNvGraphicFramePr/>
            <p:nvPr/>
          </p:nvGraphicFramePr>
          <p:xfrm>
            <a:off x="1417680" y="961920"/>
            <a:ext cx="1736640" cy="2923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417680" y="961920"/>
                      <a:ext cx="173664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1" name=""/>
            <p:cNvGraphicFramePr/>
            <p:nvPr/>
          </p:nvGraphicFramePr>
          <p:xfrm>
            <a:off x="4313160" y="950760"/>
            <a:ext cx="4302360" cy="363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313160" y="950760"/>
                      <a:ext cx="430236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36040" y="2808360"/>
            <a:ext cx="2160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for sine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963880" y="2671920"/>
          <a:ext cx="119232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3880" y="2671920"/>
                    <a:ext cx="11923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4865760" y="4745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0560" y="3490920"/>
            <a:ext cx="2946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 of sine func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7080" y="4211640"/>
            <a:ext cx="2401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 of fun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34880" y="865080"/>
            <a:ext cx="5856480" cy="1519920"/>
            <a:chOff x="434880" y="865080"/>
            <a:chExt cx="5856480" cy="1519920"/>
          </a:xfrm>
        </p:grpSpPr>
        <p:sp>
          <p:nvSpPr>
            <p:cNvPr id="311" name=""/>
            <p:cNvSpPr/>
            <p:nvPr/>
          </p:nvSpPr>
          <p:spPr>
            <a:xfrm>
              <a:off x="434880" y="865080"/>
              <a:ext cx="58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diagram shows an incomplete grap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1055520" y="1262160"/>
            <a:ext cx="3532320" cy="70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55520" y="1262160"/>
                      <a:ext cx="35323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4" name=""/>
            <p:cNvSpPr/>
            <p:nvPr/>
          </p:nvSpPr>
          <p:spPr>
            <a:xfrm>
              <a:off x="522360" y="1986120"/>
              <a:ext cx="52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coordinates of the maximum stationary point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5668920" y="712800"/>
            <a:ext cx="2940120" cy="19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4416480" y="2682720"/>
          <a:ext cx="954000" cy="590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6480" y="2682720"/>
                    <a:ext cx="9540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3700440" y="347832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e takes values between 1 and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1680" y="42242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7440" y="4910040"/>
            <a:ext cx="2591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of max s.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517920" y="4784760"/>
          <a:ext cx="858960" cy="662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17920" y="4784760"/>
                    <a:ext cx="8589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3" name="" descr=""/>
          <p:cNvPicPr/>
          <p:nvPr/>
        </p:nvPicPr>
        <p:blipFill>
          <a:blip r:embed="rId14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880" y="2279520"/>
            <a:ext cx="2113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914560" y="2305080"/>
          <a:ext cx="4581720" cy="37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4560" y="2305080"/>
                    <a:ext cx="45817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6554880" y="5834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0200" y="28051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017880" y="2789280"/>
          <a:ext cx="2874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2789280"/>
                    <a:ext cx="2874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78160" y="334008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011400" y="3278160"/>
          <a:ext cx="253044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1400" y="3278160"/>
                    <a:ext cx="25304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77800" y="387036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6360" y="440532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435400" y="4405320"/>
          <a:ext cx="3423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5400" y="4405320"/>
                    <a:ext cx="3423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2335320" y="3767040"/>
          <a:ext cx="1030320" cy="552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35320" y="3767040"/>
                    <a:ext cx="10303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699000" y="387504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99000" y="387504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5329080" y="371952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both +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370640" y="2724120"/>
            <a:ext cx="1096920" cy="969840"/>
            <a:chOff x="7370640" y="2724120"/>
            <a:chExt cx="1096920" cy="969840"/>
          </a:xfrm>
        </p:grpSpPr>
        <p:sp>
          <p:nvSpPr>
            <p:cNvPr id="355" name=""/>
            <p:cNvSpPr/>
            <p:nvPr/>
          </p:nvSpPr>
          <p:spPr>
            <a:xfrm>
              <a:off x="7813800" y="272412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45520" y="323064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17"/>
            <a:stretch/>
          </p:blipFill>
          <p:spPr>
            <a:xfrm>
              <a:off x="7886880" y="323676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18"/>
            <a:stretch/>
          </p:blipFill>
          <p:spPr>
            <a:xfrm>
              <a:off x="7370640" y="280836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19"/>
            <a:stretch/>
          </p:blipFill>
          <p:spPr>
            <a:xfrm>
              <a:off x="7888320" y="277488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20"/>
            <a:stretch/>
          </p:blipFill>
          <p:spPr>
            <a:xfrm>
              <a:off x="8078760" y="278604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61" name=""/>
          <p:cNvGraphicFramePr/>
          <p:nvPr/>
        </p:nvGraphicFramePr>
        <p:xfrm>
          <a:off x="7566120" y="3857760"/>
          <a:ext cx="90792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66120" y="3857760"/>
                    <a:ext cx="907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3809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623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101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50720" y="768240"/>
            <a:ext cx="7569360" cy="1219680"/>
            <a:chOff x="450720" y="768240"/>
            <a:chExt cx="7569360" cy="1219680"/>
          </a:xfrm>
        </p:grpSpPr>
        <p:graphicFrame>
          <p:nvGraphicFramePr>
            <p:cNvPr id="367" name=""/>
            <p:cNvGraphicFramePr/>
            <p:nvPr/>
          </p:nvGraphicFramePr>
          <p:xfrm>
            <a:off x="517680" y="768240"/>
            <a:ext cx="2909880" cy="382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17680" y="768240"/>
                      <a:ext cx="290988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450720" y="1166760"/>
              <a:ext cx="39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)     Express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 in the 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0" name=""/>
            <p:cNvGraphicFramePr/>
            <p:nvPr/>
          </p:nvGraphicFramePr>
          <p:xfrm>
            <a:off x="3551400" y="1203480"/>
            <a:ext cx="4468680" cy="341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7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551400" y="1203480"/>
                      <a:ext cx="446868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2" name=""/>
            <p:cNvGraphicFramePr/>
            <p:nvPr/>
          </p:nvGraphicFramePr>
          <p:xfrm>
            <a:off x="3514680" y="1611360"/>
            <a:ext cx="3197160" cy="3715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73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514680" y="1611360"/>
                      <a:ext cx="319716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4" name=""/>
            <p:cNvSpPr/>
            <p:nvPr/>
          </p:nvSpPr>
          <p:spPr>
            <a:xfrm>
              <a:off x="463680" y="1589040"/>
              <a:ext cx="306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b)     Hence solve algebraic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77800" y="4971960"/>
            <a:ext cx="175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equ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62120" y="4987800"/>
          <a:ext cx="2252880" cy="420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62120" y="4987800"/>
                    <a:ext cx="22528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5508720" y="4924440"/>
          <a:ext cx="1865160" cy="520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508720" y="4924440"/>
                    <a:ext cx="1865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73200" y="5483160"/>
          <a:ext cx="1861920" cy="385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73200" y="5483160"/>
                    <a:ext cx="186192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2787480" y="54864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sine +, s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&amp;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715000" y="5533920"/>
          <a:ext cx="2097000" cy="308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715000" y="5533920"/>
                    <a:ext cx="20970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7:32Z</dcterms:modified>
  <cp:revision>93</cp:revision>
  <dc:subject/>
  <dc:title>PowerPoint Presentation</dc:title>
</cp:coreProperties>
</file>